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9C633-EBA8-4C7C-BB5C-77039033DC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0C3CE-FD77-4913-A653-D92B9AEF4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7D2ED-39C5-4E9D-8EEB-8DE9DD053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282-80B2-42F0-9C82-CDC33990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327-BE42-4CF9-838C-7CCC9A4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06A-8EE1-494E-9D5A-8A62C3C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BDC-05A6-4468-9722-6F80CB48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D47-DC8F-4D7B-BD82-8513F5C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FE6-BADA-4BC0-9376-BA8BEB30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770-DBF3-498C-A5CA-6B45AEE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FF0-644C-444D-B930-41AE255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CCE-6E7D-458A-8E2B-806C9DC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58C-F671-4F89-B7BF-7716AD5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975-8DE4-4DAC-96DF-5738285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853-5E28-44C0-82F9-6A6AFEE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52744-5C1C-4457-8606-A17381995D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29A40-0723-4AB3-9840-6C2D76358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35" descr="logo5.jpg"/>
          <p:cNvPicPr/>
          <p:nvPr/>
        </p:nvPicPr>
        <p:blipFill>
          <a:blip r:embed="rId2"/>
          <a:stretch/>
        </p:blipFill>
        <p:spPr>
          <a:xfrm>
            <a:off x="6451560" y="5989680"/>
            <a:ext cx="2657520" cy="868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20520" y="0"/>
            <a:ext cx="1384560" cy="554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nasa-logo.gif"/>
          <p:cNvPicPr/>
          <p:nvPr/>
        </p:nvPicPr>
        <p:blipFill>
          <a:blip r:embed="rId4"/>
          <a:stretch/>
        </p:blipFill>
        <p:spPr>
          <a:xfrm>
            <a:off x="74520" y="5989680"/>
            <a:ext cx="88920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enagerie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IP OpenSearch Cl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. Lynnes, NASA/GSF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. Keiser, U. Alabama--Huntsv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 Subset Wiz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d to provide a simple user interface to request subsets from any of 10 of the EOSDIS DA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OpenSearch to determine (behind-the-scenes) which granules match the user’s area and times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 Adoption of Open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ifies time-to-field new applic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eoff (for now) is richness of search capa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AH Cli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S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k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OS Coastal Modeling Testb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3/DAT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SA/GSFC Cli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-based Giovan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Subset Wiz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4000" y="186840"/>
            <a:ext cx="683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– Satellite Coincident Search Subscription Serv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scs3.tiff"/>
          <p:cNvPicPr/>
          <p:nvPr/>
        </p:nvPicPr>
        <p:blipFill>
          <a:blip r:embed="rId1"/>
          <a:stretch/>
        </p:blipFill>
        <p:spPr>
          <a:xfrm>
            <a:off x="4519440" y="1373040"/>
            <a:ext cx="3832560" cy="4775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57200" y="1900080"/>
            <a:ext cx="351324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ool at the Global Hydrology Resource Center (GHRC) that uses the OpenSearch interface to ECHO’s data broker to provide access to coincident satellite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570040" y="619272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cs3.nsstc.nasa.gov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 12" descr="Picture 10.png"/>
          <p:cNvPicPr/>
          <p:nvPr/>
        </p:nvPicPr>
        <p:blipFill>
          <a:blip r:embed="rId1"/>
          <a:srcRect l="-26283" t="0" r="-26283" b="0"/>
          <a:stretch/>
        </p:blipFill>
        <p:spPr>
          <a:xfrm>
            <a:off x="173160" y="581040"/>
            <a:ext cx="7130880" cy="3711600"/>
          </a:xfrm>
          <a:prstGeom prst="rect">
            <a:avLst/>
          </a:prstGeom>
          <a:ln w="0">
            <a:noFill/>
          </a:ln>
        </p:spPr>
      </p:pic>
      <p:sp>
        <p:nvSpPr>
          <p:cNvPr id="60" name="Title 1"/>
          <p:cNvSpPr/>
          <p:nvPr/>
        </p:nvSpPr>
        <p:spPr>
          <a:xfrm>
            <a:off x="419040" y="36360"/>
            <a:ext cx="82011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lkoot: Data Search Mo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datasearchresults-save.JPG"/>
          <p:cNvPicPr/>
          <p:nvPr/>
        </p:nvPicPr>
        <p:blipFill>
          <a:blip r:embed="rId2"/>
          <a:stretch/>
        </p:blipFill>
        <p:spPr>
          <a:xfrm>
            <a:off x="4470480" y="2876400"/>
            <a:ext cx="4464000" cy="2694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73160" y="4292640"/>
            <a:ext cx="359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Search interface to GHRC, Mirador, and MOD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terface for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tial bou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poral ran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044080" y="628164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iningsolutions.itsc.uah.edu/talkoot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/>
          <p:cNvSpPr/>
          <p:nvPr/>
        </p:nvSpPr>
        <p:spPr>
          <a:xfrm>
            <a:off x="-266760" y="464832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datasearch.jpg"/>
          <p:cNvPicPr/>
          <p:nvPr/>
        </p:nvPicPr>
        <p:blipFill>
          <a:blip r:embed="rId1"/>
          <a:stretch/>
        </p:blipFill>
        <p:spPr>
          <a:xfrm>
            <a:off x="247680" y="693720"/>
            <a:ext cx="5353200" cy="344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ybertoolstdatasearchresults.jpeg"/>
          <p:cNvPicPr/>
          <p:nvPr/>
        </p:nvPicPr>
        <p:blipFill>
          <a:blip r:embed="rId2"/>
          <a:stretch/>
        </p:blipFill>
        <p:spPr>
          <a:xfrm>
            <a:off x="4102200" y="1608120"/>
            <a:ext cx="5041800" cy="3700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90440" y="4665600"/>
            <a:ext cx="5791320" cy="12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Search interface to current Testbed cata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 based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word based filtered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08200" y="69840"/>
            <a:ext cx="7407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OS Coastal Modeling Testbed Data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2770200" y="62992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estbed.sura.org/data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3440" y="128160"/>
            <a:ext cx="69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MAN or Event-Drive Data Delivery (E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d3.tiff"/>
          <p:cNvPicPr/>
          <p:nvPr/>
        </p:nvPicPr>
        <p:blipFill>
          <a:blip r:embed="rId1"/>
          <a:stretch/>
        </p:blipFill>
        <p:spPr>
          <a:xfrm>
            <a:off x="3022560" y="1658880"/>
            <a:ext cx="5888160" cy="4240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23920" y="1900080"/>
            <a:ext cx="256536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type functionality that utilizes the same OpenSearch service interface to ECHO as SCS3, to support the fulfillment of event-driven data subscri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499480" y="62704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d3dev.itsc.uah.edu/ed3u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35120" y="274680"/>
            <a:ext cx="705168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rador searches for similar non-GES-DISC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33400" y="558720"/>
            <a:ext cx="617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8160" y="-360"/>
            <a:ext cx="78454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-Based Giovan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rcRect l="0" t="0" r="545" b="49013"/>
          <a:stretch/>
        </p:blipFill>
        <p:spPr>
          <a:xfrm>
            <a:off x="0" y="2590920"/>
            <a:ext cx="9144000" cy="3579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131920" y="9604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ty-based Giovanni will allow external organizations to populate and manage their own port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BG uses OpenSearch to search/access non-GES DISC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0" t="0" r="19408" b="33499"/>
          <a:stretch/>
        </p:blipFill>
        <p:spPr>
          <a:xfrm>
            <a:off x="434880" y="542880"/>
            <a:ext cx="86076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9:00:23Z</dcterms:created>
  <dc:creator>Christopher Lynnes</dc:creator>
  <dc:description/>
  <dc:language>en-US</dc:language>
  <cp:lastModifiedBy>Christopher Lynnes</cp:lastModifiedBy>
  <dcterms:modified xsi:type="dcterms:W3CDTF">2011-07-25T19:00:50Z</dcterms:modified>
  <cp:revision>4</cp:revision>
  <dc:subject/>
  <dc:title>A Menagerie of  ESIP OpenSearch Clients</dc:title>
</cp:coreProperties>
</file>